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790-B7CE-4E31-BFBF-D3E466A9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E8D-2421-454C-951B-071808B2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7BE-E857-47CB-AC18-C8A207D6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7E9-77E4-45AE-AEFD-A1426172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88BC-D12B-443C-840A-C14398D0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C524-130A-4BFA-A27C-7BF09EDB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544F-01C7-4843-A12F-51A73579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08FC-B562-46BD-8E71-1E1E94E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634E-1B58-4BB4-A4BE-103E32ED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DC40-4D08-4781-9354-6169B555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81E8-7CA9-4615-A471-B5760D8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43E-A49B-405B-88C8-3EDC3765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DC6A-9F75-4377-A1F6-C9BD8A1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DFDD-A408-4657-A045-532763F3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C903-8523-427E-AFDC-C3945F98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0742-DE09-4002-8551-757D587D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1BF4-0B29-4C05-9D56-7CE71670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8F2-A5A9-421D-9D3F-48CCEA90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2CE-7885-4E7E-90E4-7688A9D4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114-CC69-491E-A48E-F71F88BA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E56-3352-42D4-9157-B4DCBF89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2D5-08B3-4D12-932C-7313D316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6E2-D901-4C0E-883B-6B34A281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0ED-020B-4874-B08B-0D8E2469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2772-0D7B-4F07-9B88-5634DD7D2C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AC0B-563E-420D-93C9-2E1C0C5287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History of the C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07-00-Cell.jpg"/>
          <p:cNvPicPr/>
          <p:nvPr/>
        </p:nvPicPr>
        <p:blipFill>
          <a:blip r:embed="rId1"/>
          <a:stretch/>
        </p:blipFill>
        <p:spPr>
          <a:xfrm>
            <a:off x="1447920" y="2438280"/>
            <a:ext cx="6019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lix Dujard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name the jelly-like material in a cell. Called it sar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code was later renamed protopla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895480" y="3733920"/>
            <a:ext cx="30481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plant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781680" y="3809880"/>
            <a:ext cx="177192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200400" y="3886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09480" y="35053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odor Schwan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animal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635880" y="2643120"/>
            <a:ext cx="63360" cy="10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095880" y="3809880"/>
            <a:ext cx="2819520" cy="190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[Theodor Schwann]"/>
          <p:cNvPicPr/>
          <p:nvPr/>
        </p:nvPicPr>
        <p:blipFill>
          <a:blip r:embed="rId6"/>
          <a:stretch/>
        </p:blipFill>
        <p:spPr>
          <a:xfrm>
            <a:off x="457200" y="3429000"/>
            <a:ext cx="203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reproduce: that is where new cells come fr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ell exists, there must have been a pre-existing cell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Image:Rudolf Virchow.jpg"/>
          <p:cNvPicPr/>
          <p:nvPr/>
        </p:nvPicPr>
        <p:blipFill>
          <a:blip r:embed="rId4"/>
          <a:stretch/>
        </p:blipFill>
        <p:spPr>
          <a:xfrm>
            <a:off x="5361120" y="1981080"/>
            <a:ext cx="2765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Cell Theo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ll living things are made of cells. (Schleiden = plants, Schwann = anim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ells are the basic units of structure and function in living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ew cells are produced from existing ce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irch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 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a timeline of the people involved in the discovery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name of the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year of their disco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hat their discovery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se cells the same and how are they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600200"/>
          <a:ext cx="3198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3198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44756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07-04x2-EColi.jpg"/>
          <p:cNvPicPr/>
          <p:nvPr/>
        </p:nvPicPr>
        <p:blipFill>
          <a:blip r:embed="rId4"/>
          <a:stretch/>
        </p:blipFill>
        <p:spPr>
          <a:xfrm>
            <a:off x="1219320" y="4191120"/>
            <a:ext cx="2528640" cy="2189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86400" y="4267080"/>
            <a:ext cx="2990880" cy="224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867280" y="1523880"/>
            <a:ext cx="3048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the basic unit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a structure within a living thing that has a boundary surrounding the material in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41907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mall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07-01-CellSizeScale-L.gif"/>
          <p:cNvPicPr/>
          <p:nvPr/>
        </p:nvPicPr>
        <p:blipFill>
          <a:blip r:embed="rId1"/>
          <a:stretch/>
        </p:blipFill>
        <p:spPr>
          <a:xfrm>
            <a:off x="3048120" y="1219320"/>
            <a:ext cx="3252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re cells discove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were curious about what living things were made o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ey created microscopes to take a closer look at living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036520" cy="203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095880" y="41148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main people involved in the discovery of ce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181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n van Leeuwenh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x Dujard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 Scw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on von Leeuwenho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see and describ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simple microscope (one le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tiny living organisms in a drop of pond water (“wee beasties”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143000" y="4359240"/>
            <a:ext cx="2584440" cy="2325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4343400" y="4300560"/>
            <a:ext cx="4267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6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use the term, “cell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compound microscope (2 lens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a slice of cork (dead cell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d for seeing, describing, and expl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173700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095880" y="3886200"/>
            <a:ext cx="2319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identify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ed that nucleus was doing something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95440" y="4038480"/>
            <a:ext cx="187632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419720" y="40384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3:05:11Z</dcterms:created>
  <dc:creator>Theresa DeLaurentis</dc:creator>
  <dc:description/>
  <dc:language>en-US</dc:language>
  <cp:lastModifiedBy>Theresa DeLaurentis</cp:lastModifiedBy>
  <dcterms:modified xsi:type="dcterms:W3CDTF">2007-03-04T05:40:08Z</dcterms:modified>
  <cp:revision>14</cp:revision>
  <dc:subject/>
  <dc:title>Are All Cells Alike?</dc:title>
</cp:coreProperties>
</file>